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AF93-4075-4382-B9CD-57E383A78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EAA2-D066-45AF-BF05-6AE4FCDA7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E6A9-E9D7-4E8C-865C-2B79B8B93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0F3D-3E64-47A2-AB77-CFB1DEBF4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570A-B44C-44E8-86E0-E84FD29B4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84E7-095F-40DA-B9ED-CB221855D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855BB-9E0B-4A69-A63E-378F8AB14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61FA-51F6-469A-B165-4E4B80821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25E5-EC41-4147-8AEC-8C3DDC98B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BF0B-27EF-46FB-A62F-0AC64013A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27B41-8162-48F4-8A9E-3CBAB39CF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E08D-A7CF-4DB6-81A1-09A247A55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59599-5BA9-4C74-BA95-7A994C055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14B7-C031-4BAD-9B61-A157E0852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5C4F-259C-4AB5-8D89-4880674FA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EB86-3E07-48EA-BD37-F62C81C86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D11B-3C7E-41CA-9E92-EB12F122D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E7A2-A697-4718-8304-D1DCA7086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180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dcterms:modified xsi:type="dcterms:W3CDTF">2008-06-04T19:47:11Z</dcterms:modified>
  <cp:revision>83</cp:revision>
  <dc:subject/>
  <dc:title>AT Basic System Example</dc:title>
</cp:coreProperties>
</file>