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29D5-1192-4DDA-88F3-4C4BA81CB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E4CB-ED20-4116-82F5-FCB9F8110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5D4C-7AA4-4C70-BAA5-23143DCCD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FAC3-EC87-4A78-B433-05FA7276A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3BD7-B7D4-4EE6-BB1C-18D914159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40D6C-E7A7-4415-9A35-B73DC18E75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03E03-E8F6-45E6-87B7-8B63E56205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0AB71-ACC0-45B8-ADAE-233D94FED5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DE3B2-D7F0-4BB5-B6C9-5221626456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4EA43-E4A3-4A89-9563-7CD62BF26B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18CE6-DA68-442E-BB67-22BF8A18A9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F164B-B898-4731-8B20-3473061A0B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09A44-842B-4BC0-99C9-6AF79A9A19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0473F-BCF3-47F6-8F35-524B329082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649F7-4B2E-493C-9E7C-BFFC2C6C70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1190B-0809-4F81-B88B-A672371867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1B60A-1D3E-418D-AF8D-79BD54356F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D53A-EE8E-4013-84B3-629A4D5E9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3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4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5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6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7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8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0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1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2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3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4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5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7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9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1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3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4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5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6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7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8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9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1" name="AutoShape 13"/>
            <p:cNvCxnSpPr>
              <a:stCxn id="312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3" name="AutoShape 17"/>
            <p:cNvCxnSpPr>
              <a:endCxn id="314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7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8" name="AutoShape 51"/>
            <p:cNvCxnSpPr>
              <a:stCxn id="317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9" name="AutoShape 52"/>
            <p:cNvCxnSpPr>
              <a:stCxn id="317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0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4"/>
            <p:cNvCxnSpPr>
              <a:stCxn id="320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5"/>
            <p:cNvCxnSpPr>
              <a:stCxn id="320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3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4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6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8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0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2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6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4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Rectangle 1028"/>
          <p:cNvSpPr/>
          <p:nvPr/>
        </p:nvSpPr>
        <p:spPr>
          <a:xfrm>
            <a:off x="1072800" y="1027080"/>
            <a:ext cx="47494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47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extension data: 'Initiator ID: 101'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new 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47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extension data: 'Initiator ID: 101'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Rounded Rectangular Callout 3"/>
          <p:cNvSpPr/>
          <p:nvPr/>
        </p:nvSpPr>
        <p:spPr>
          <a:xfrm>
            <a:off x="6502320" y="2324160"/>
            <a:ext cx="1917720" cy="482400"/>
          </a:xfrm>
          <a:prstGeom prst="wedgeRoundRectCallout">
            <a:avLst>
              <a:gd name="adj1" fmla="val -156416"/>
              <a:gd name="adj2" fmla="val 8856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5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6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7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8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9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0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4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5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6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7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1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3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5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6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7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8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9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0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2" name="AutoShape 156"/>
          <p:cNvCxnSpPr>
            <a:stCxn id="143" idx="3"/>
            <a:endCxn id="144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5" name="AutoShape 157"/>
          <p:cNvCxnSpPr>
            <a:stCxn id="146" idx="2"/>
            <a:endCxn id="147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8" name="AutoShape 158"/>
          <p:cNvCxnSpPr>
            <a:stCxn id="146" idx="0"/>
            <a:endCxn id="149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0" name="AutoShape 159"/>
          <p:cNvCxnSpPr>
            <a:stCxn id="151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2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4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1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5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3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73"/>
          <p:cNvCxnSpPr>
            <a:stCxn id="158" idx="2"/>
            <a:endCxn id="157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0" name="AutoShape 174"/>
          <p:cNvCxnSpPr>
            <a:stCxn id="158" idx="0"/>
            <a:endCxn id="161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1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6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7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8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9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0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4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6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7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0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1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2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4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5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6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7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8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1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2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3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4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5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6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0" name="AutoShape 80"/>
          <p:cNvCxnSpPr>
            <a:stCxn id="198" idx="3"/>
            <a:endCxn id="189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81"/>
          <p:cNvCxnSpPr>
            <a:stCxn id="196" idx="3"/>
            <a:endCxn id="189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AutoShape 82"/>
          <p:cNvCxnSpPr>
            <a:stCxn id="189" idx="3"/>
            <a:endCxn id="192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3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4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5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6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7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9" name="AutoShape 90"/>
          <p:cNvCxnSpPr>
            <a:stCxn id="198" idx="1"/>
            <a:endCxn id="205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0" name="AutoShape 91"/>
          <p:cNvCxnSpPr>
            <a:stCxn id="192" idx="1"/>
            <a:endCxn id="208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2"/>
          <p:cNvCxnSpPr>
            <a:stCxn id="198" idx="1"/>
            <a:endCxn id="208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3"/>
          <p:cNvCxnSpPr>
            <a:stCxn id="196" idx="1"/>
            <a:endCxn id="208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AutoShape 94"/>
          <p:cNvCxnSpPr>
            <a:stCxn id="198" idx="2"/>
            <a:endCxn id="199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5"/>
          <p:cNvCxnSpPr>
            <a:stCxn id="199" idx="2"/>
            <a:endCxn id="192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6"/>
          <p:cNvCxnSpPr>
            <a:stCxn id="192" idx="2"/>
            <a:endCxn id="197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7"/>
          <p:cNvCxnSpPr>
            <a:stCxn id="197" idx="2"/>
            <a:endCxn id="196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2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3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4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5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6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8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9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0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1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2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3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5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6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7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8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9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2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3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4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6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8" name="AutoShape 30"/>
          <p:cNvCxnSpPr>
            <a:stCxn id="259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0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1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2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9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3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6" name="AutoShape 40"/>
          <p:cNvCxnSpPr>
            <a:stCxn id="256" idx="1"/>
            <a:endCxn id="260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7" name="AutoShape 41"/>
          <p:cNvCxnSpPr>
            <a:stCxn id="268" idx="3"/>
            <a:endCxn id="264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9" name="AutoShape 42"/>
          <p:cNvCxnSpPr>
            <a:stCxn id="263" idx="1"/>
            <a:endCxn id="259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40"/>
          <p:cNvCxnSpPr>
            <a:stCxn id="265" idx="2"/>
            <a:endCxn id="263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8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1073"/>
          <p:cNvCxnSpPr>
            <a:stCxn id="260" idx="2"/>
            <a:endCxn id="275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1074"/>
          <p:cNvCxnSpPr>
            <a:stCxn id="275" idx="2"/>
            <a:endCxn id="268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AutoShape 1075"/>
          <p:cNvCxnSpPr>
            <a:stCxn id="268" idx="2"/>
            <a:endCxn id="265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AutoShape 1076"/>
          <p:cNvCxnSpPr>
            <a:stCxn id="260" idx="3"/>
            <a:endCxn id="263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0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0:27:08Z</dcterms:created>
  <dc:creator>Anna Keist, Bill Bunton, Charles Wilson</dc:creator>
  <dc:description/>
  <cp:keywords/>
  <dc:language>en-US</dc:language>
  <cp:lastModifiedBy>Charles Wilson</cp:lastModifiedBy>
  <cp:lastPrinted>2008-06-04T21:18:56Z</cp:lastPrinted>
  <dcterms:modified xsi:type="dcterms:W3CDTF">2008-06-05T21:04:24Z</dcterms:modified>
  <cp:revision>85</cp:revision>
  <dc:subject/>
  <dc:title>AT Basic System Example</dc:title>
</cp:coreProperties>
</file>