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0F838-3161-4150-AC46-4CD923BC92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DF122-51C3-457D-B7BF-87F3F9F60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B7C9C-1A9F-44D0-ACE4-BEFF56B5E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BE881-2002-48E3-9C04-A27BAA361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400DF-4E85-4E94-A5CC-E11A9C1BA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94665-7537-4812-8894-749BAAE13B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C53CC-E107-48B3-8068-E21EE28BD8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20F5F-2140-44CE-BE85-48C11D43BA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DF63E-D3F4-4A6D-841D-D45EA711AD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406E1-CA48-413E-8EDF-FE1F5767EC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11F30-AA87-4FD3-8D79-FC48627A1B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0D9CD-7DDF-43E8-9562-3E1114B793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DDB2D-DDE6-4A01-9715-A9876D491A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73904-9769-4B4E-A57C-3F087A4E38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E5F64-793F-4E48-AFAD-72C3C041DB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24089-1197-4E18-8EFC-0A36492344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A3997-05CD-4732-B42F-50BB1D0867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FAEF7-CBC4-4591-8F72-3CC7238F10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757440" y="928800"/>
            <a:ext cx="75416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100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Charles Wilson</cp:lastModifiedBy>
  <dcterms:modified xsi:type="dcterms:W3CDTF">2008-06-02T13:26:47Z</dcterms:modified>
  <cp:revision>81</cp:revision>
  <dc:subject/>
  <dc:title>AT Basic System Example</dc:title>
</cp:coreProperties>
</file>