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9DF6-B0B1-43DE-B9DB-F82E387EA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EA1E-11A8-47D0-8486-C59594509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3377-38B8-40F0-9339-9C2F1F433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AE73-07A8-41B6-A28A-E88746AC5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8B47-1CFE-4A50-B415-45BDDC478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18327-86A3-4E7C-8DD1-7B9CE210A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6D6E8-9560-4B9C-ACEB-8A9E7D6A9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A6545-FF88-41D5-93BC-0238B8CCD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39466-D756-4BA5-B42E-C3916DA35C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DFBCC-97AD-4DFB-8B49-91CBA7550D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81443-B930-4445-949D-82645ABD6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A279D-8A27-4EDC-9E44-79EA14BCF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6E5C-211E-4695-B359-6983363CA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9821D-865F-4C47-A2C6-9124207DA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F1EB4-9F47-4B5B-899E-E6BF6EBC0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80440-B011-4076-AE89-F78496829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5DE2-C7A7-4501-B25F-1AC7B22E8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2E61-B358-41BB-B56D-84D092F57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Jack Donovan</cp:lastModifiedBy>
  <dcterms:modified xsi:type="dcterms:W3CDTF">2009-06-25T22:10:05Z</dcterms:modified>
  <cp:revision>83</cp:revision>
  <dc:subject/>
  <dc:title>AT Basic System Example</dc:title>
</cp:coreProperties>
</file>