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C78C8-2A15-4E7E-994A-FDA92A360E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4ED65-911F-44F4-956B-E4CB3D1E9E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26E19-FF17-4E18-BD82-39F598457D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D96BC-D110-4BED-9FEE-7AD73F739D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F1CE2-AB9C-4B6D-8125-F82EB19C2C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CC97E-B94E-4FAB-8C18-9EF848F7F0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BF37F-E969-4D24-B23D-4DB3702641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D42E9-F411-4DE4-8B22-A22F874C97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9A775-FE77-490E-9EC2-D36815DAE1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6FFD6-8CC4-4D06-B712-A79E457507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0BB33-A85A-4DFF-B5E6-B07B848DB3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DB4EE-0590-4AD6-8129-428729A0DC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54A60-F087-4784-A408-5D56A2B35C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D73F8-54E0-4432-B0EA-76B335FBB4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3F4AE-9E25-4A17-9C0B-0417863803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624E5-E864-4DA2-ACBD-57B4137C8B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ED99E-BDEA-41EB-AC34-C95ED0C5FE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963BB-44FE-40A0-A079-A1FE408140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Jack Donovan</cp:lastModifiedBy>
  <dcterms:modified xsi:type="dcterms:W3CDTF">2009-05-04T21:26:45Z</dcterms:modified>
  <cp:revision>87</cp:revision>
  <dc:subject/>
  <dc:title>AT Basic System Example</dc:title>
</cp:coreProperties>
</file>