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CABA-46A8-4F88-B643-1D6944A78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0F041-31F4-43D8-882F-DC41AB488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DDD36-258A-4114-BBA1-DF0AC8CCC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A9E64-4562-4C18-AA1A-68AD9B0C9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4EAE-2E49-4300-884C-C3B7753E9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5B73-F8CC-4A1E-805B-B684E01AB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B7743-DE59-48C2-932A-68E345A54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4A85-7949-4F2D-8C14-4534B1298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BFE9-A3DA-4243-86FE-3DC8E5BF2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A5AF-1DE5-41E0-8163-C059C9926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8756-D2C7-4CB5-809A-9109492DF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97E5F-BF10-4FCF-8464-73BFB167A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56B50-A4F0-4DA8-82D6-71589E76D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8BAE-D980-40D8-8EEE-F18BFBB60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59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3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6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0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4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7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 </cp:lastModifiedBy>
  <dcterms:modified xsi:type="dcterms:W3CDTF">2009-02-07T17:01:47Z</dcterms:modified>
  <cp:revision>62</cp:revision>
  <dc:subject/>
  <dc:title>TLM2</dc:title>
</cp:coreProperties>
</file>