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49892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898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8D071-5352-4DF1-8C15-C482CE54F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A4169-80E3-48C7-81BB-FC2995DC45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6793E-EA52-40EB-88A0-A18ACA9D9D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A3E3D-CFBC-4D8E-AD25-282E4E395F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46BD1-5A95-42D6-9079-18191E6209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039C4-432B-4683-ADD3-A74FB205E6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9555C-EDDD-4D40-B5C2-185E33805D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F981A-7B34-4BB8-B6EF-0DA815018D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0AFC7-8F84-4F82-AF7D-E4F1768D81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4E6A8-6361-4C0D-AA99-ACD225E0C2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EB0C6-76C7-4861-B4DA-A86ECFB5E2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943FE-B696-4C97-88C9-FAB6604CE9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23923-F5E9-4822-8CC1-330B3B7E1D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4C937-888A-4B36-9BAE-21EE7E9E4C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A3E62-C945-4D4C-8307-AD362EEEDB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C3E90-2E19-477B-A786-50A7B5DD9C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219BC-F7B2-46C9-AC59-7C23E83E6B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E0EA2-19E2-4120-9BA2-8BDB417EB3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2323B-BA15-4626-89B3-3856C53300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778F9-3A39-45F6-891C-1B7B6A5F03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BA81B-E20D-4AE2-9AE2-6A375F9F6C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73720" cy="3355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32D49-26A8-4D89-B086-19616CDDCF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5047D-2065-4BDA-8E07-E224B0023E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6B0F1-17F3-43D2-80D4-3E25DBA908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C5177-AA5C-4CF6-9C5F-E488DCCE9C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B85E6-49A9-4637-B0B1-A333ABC3B6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D9AA2-A2D9-4DAC-8FB2-039500D82B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1FB5D-6572-4D6C-B750-D5C7D53632A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E2D38-6B2A-458D-A148-264114B2B58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DB5EF-6BF6-4C5C-BFA8-B9888CDD50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5C2EA-B077-4D3F-B754-FBB3B1F1C1A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75469-9DE0-4A50-9579-84F6940B7B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D6778-21BA-4578-9966-75BDDC36489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EE9BD-AAF0-43DA-A9BD-C323EE4FD4C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A899A-9713-45CA-BB6F-076F7C65FBE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E10BF-EE29-40E3-8BA1-498FE70FF17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BA7F5-98EE-47A2-8D01-049C4DC03A9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25006-2112-4416-AC30-DEE0FDB8139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D19BA-05E3-48AC-BEB9-F4C5AC56AA1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69C1C-1DA9-46A6-8CAD-DCFA5BADB1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68C0B-0341-44A6-BDE4-100D9AC665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66CA1-E5BC-4ED6-BA6A-FDDF7BF04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F4601-0659-4FA4-8EAF-CC91F1FDF6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096A7-7E20-4613-8296-92155BADEB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5581A-7717-4329-B709-683232021C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B6E27-EB10-4BF4-BC2A-DE8FD7C79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8120"/>
            <a:ext cx="11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72DD5-9230-4D0D-B491-03EDD69F88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228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22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240" y="6287760"/>
            <a:ext cx="11444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7235EB87-73B3-439B-8F11-ED20135131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cifying Parameter Value via a Configuration File</a:t>
            </a: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1"/>
          <p:cNvSpPr/>
          <p:nvPr/>
        </p:nvSpPr>
        <p:spPr>
          <a:xfrm>
            <a:off x="554040" y="144360"/>
            <a:ext cx="807228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pecifying Parameter Values via a Configuration F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Understand the precedence between the default, preset and 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Processing configuration file to establish pre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72960" y="2743200"/>
            <a:ext cx="4503960" cy="11430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“cci_configFile_Tool.h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configuration file as shown below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Unicode MS"/>
              </a:rPr>
              <a:t>cci_configFile_Tool configTool("configFileTool"); configTool.config("Configuration_File.txt");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1" name="Group 10"/>
          <p:cNvGrpSpPr/>
          <p:nvPr/>
        </p:nvGrpSpPr>
        <p:grpSpPr>
          <a:xfrm>
            <a:off x="5105520" y="1676520"/>
            <a:ext cx="3657600" cy="1828800"/>
            <a:chOff x="5105520" y="1676520"/>
            <a:chExt cx="3657600" cy="1828800"/>
          </a:xfrm>
        </p:grpSpPr>
        <p:sp>
          <p:nvSpPr>
            <p:cNvPr id="182" name="AutoShape 2"/>
            <p:cNvSpPr/>
            <p:nvPr/>
          </p:nvSpPr>
          <p:spPr>
            <a:xfrm>
              <a:off x="5715000" y="304812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AutoShape 5"/>
            <p:cNvSpPr/>
            <p:nvPr/>
          </p:nvSpPr>
          <p:spPr>
            <a:xfrm>
              <a:off x="5105520" y="167652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4" name="AutoShape 9"/>
          <p:cNvSpPr/>
          <p:nvPr/>
        </p:nvSpPr>
        <p:spPr>
          <a:xfrm>
            <a:off x="533520" y="2133720"/>
            <a:ext cx="2361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Within sc_mai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685800" y="914400"/>
            <a:ext cx="792468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an instance of the class that reads the configuration file within the sc_main function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reads name-value pairs from the configuration file and assigns to the respective parameters accordingly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3"/>
          <p:cNvSpPr/>
          <p:nvPr/>
        </p:nvSpPr>
        <p:spPr>
          <a:xfrm>
            <a:off x="228600" y="914400"/>
            <a:ext cx="3809880" cy="685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22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 Implementa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5486400" y="685800"/>
            <a:ext cx="3657600" cy="1828800"/>
            <a:chOff x="5486400" y="685800"/>
            <a:chExt cx="3657600" cy="1828800"/>
          </a:xfrm>
        </p:grpSpPr>
        <p:sp>
          <p:nvSpPr>
            <p:cNvPr id="190" name="AutoShape 6"/>
            <p:cNvSpPr/>
            <p:nvPr/>
          </p:nvSpPr>
          <p:spPr>
            <a:xfrm>
              <a:off x="6095880" y="205740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AutoShape 7"/>
            <p:cNvSpPr/>
            <p:nvPr/>
          </p:nvSpPr>
          <p:spPr>
            <a:xfrm>
              <a:off x="5486400" y="68580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2" name="AutoShape 8"/>
          <p:cNvSpPr/>
          <p:nvPr/>
        </p:nvSpPr>
        <p:spPr>
          <a:xfrm>
            <a:off x="304920" y="1752480"/>
            <a:ext cx="434340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is a simple C++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304920" y="2666880"/>
            <a:ext cx="78483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Get handl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global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(cci::get_global_broker(mToolOriginator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76320" y="3276720"/>
            <a:ext cx="8305560" cy="1600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API,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line void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 (const char* filename)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function reads the fi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uration_File.tx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line by line using an iterator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t assigns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rest value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cci-parameters read from the file using the broke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.set_prest_value(it-&gt;first.c_str(), cci::cci_value::from_json(it-&gt;second.c_str())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Line 12"/>
          <p:cNvSpPr/>
          <p:nvPr/>
        </p:nvSpPr>
        <p:spPr>
          <a:xfrm flipH="1">
            <a:off x="2895480" y="46483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4114800" y="46483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914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nam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4343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304920" y="2209680"/>
            <a:ext cx="510516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 a cci::cci_originator instanc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ToolOrigina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14"/>
          <p:cNvGrpSpPr/>
          <p:nvPr/>
        </p:nvGrpSpPr>
        <p:grpSpPr>
          <a:xfrm>
            <a:off x="4724280" y="685800"/>
            <a:ext cx="3535560" cy="5475240"/>
            <a:chOff x="4724280" y="685800"/>
            <a:chExt cx="3535560" cy="5475240"/>
          </a:xfrm>
        </p:grpSpPr>
        <p:sp>
          <p:nvSpPr>
            <p:cNvPr id="203" name="AutoShape 3"/>
            <p:cNvSpPr/>
            <p:nvPr/>
          </p:nvSpPr>
          <p:spPr>
            <a:xfrm>
              <a:off x="4724280" y="685800"/>
              <a:ext cx="353556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Line 4"/>
            <p:cNvSpPr/>
            <p:nvPr/>
          </p:nvSpPr>
          <p:spPr>
            <a:xfrm>
              <a:off x="6469200" y="1131840"/>
              <a:ext cx="9360" cy="50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5" name="AutoShape 5"/>
          <p:cNvSpPr/>
          <p:nvPr/>
        </p:nvSpPr>
        <p:spPr>
          <a:xfrm>
            <a:off x="312840" y="1370160"/>
            <a:ext cx="445140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() :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() : pre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3276720" y="2173320"/>
            <a:ext cx="5486400" cy="19000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Get references of the integer, float and string cci-parameters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in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in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floa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floa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str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string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3048120" y="4484520"/>
            <a:ext cx="5943600" cy="696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e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new values to ‘integer’ and ‘string’ typ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set_cci_value(cci_value(“20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set_cci_value(cci_value::from_json(“configure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7454880" y="4073400"/>
            <a:ext cx="1155600" cy="4222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9"/>
          <p:cNvSpPr/>
          <p:nvPr/>
        </p:nvSpPr>
        <p:spPr>
          <a:xfrm>
            <a:off x="314280" y="5256360"/>
            <a:ext cx="524844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_value() :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_value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_value() : configur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0"/>
          <p:cNvSpPr/>
          <p:nvPr/>
        </p:nvSpPr>
        <p:spPr>
          <a:xfrm>
            <a:off x="488880" y="4835520"/>
            <a:ext cx="1155600" cy="345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1" name="Group 13"/>
          <p:cNvGrpSpPr/>
          <p:nvPr/>
        </p:nvGrpSpPr>
        <p:grpSpPr>
          <a:xfrm>
            <a:off x="1108080" y="679320"/>
            <a:ext cx="2625840" cy="5492520"/>
            <a:chOff x="1108080" y="679320"/>
            <a:chExt cx="2625840" cy="5492520"/>
          </a:xfrm>
        </p:grpSpPr>
        <p:sp>
          <p:nvSpPr>
            <p:cNvPr id="212" name="AutoShape 2"/>
            <p:cNvSpPr/>
            <p:nvPr/>
          </p:nvSpPr>
          <p:spPr>
            <a:xfrm>
              <a:off x="1108080" y="679320"/>
              <a:ext cx="2625840" cy="47916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4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Line 11"/>
            <p:cNvSpPr/>
            <p:nvPr/>
          </p:nvSpPr>
          <p:spPr>
            <a:xfrm>
              <a:off x="2543040" y="1379880"/>
              <a:ext cx="9720" cy="47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4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2"/>
          <p:cNvSpPr/>
          <p:nvPr/>
        </p:nvSpPr>
        <p:spPr>
          <a:xfrm>
            <a:off x="304920" y="144360"/>
            <a:ext cx="850716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cedence of Prest, Default &amp; Set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1600200" y="19810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1600200" y="40068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152280" y="186048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1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52280" y="388620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2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1600200" y="762120"/>
            <a:ext cx="1066680" cy="42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Line 10"/>
          <p:cNvSpPr/>
          <p:nvPr/>
        </p:nvSpPr>
        <p:spPr>
          <a:xfrm flipV="1">
            <a:off x="213372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144792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38098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38098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320040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3200400" y="717480"/>
            <a:ext cx="1295280" cy="501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274320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Line 17"/>
          <p:cNvSpPr/>
          <p:nvPr/>
        </p:nvSpPr>
        <p:spPr>
          <a:xfrm>
            <a:off x="495288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AutoShape 18"/>
          <p:cNvSpPr/>
          <p:nvPr/>
        </p:nvSpPr>
        <p:spPr>
          <a:xfrm>
            <a:off x="152280" y="5638680"/>
            <a:ext cx="22860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fore instantiation of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AutoShape 19"/>
          <p:cNvSpPr/>
          <p:nvPr/>
        </p:nvSpPr>
        <p:spPr>
          <a:xfrm>
            <a:off x="4229280" y="1676520"/>
            <a:ext cx="144756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over-ridden by the preset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20"/>
          <p:cNvSpPr/>
          <p:nvPr/>
        </p:nvSpPr>
        <p:spPr>
          <a:xfrm>
            <a:off x="2095560" y="1652760"/>
            <a:ext cx="121932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has the highest precedenc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1"/>
          <p:cNvSpPr/>
          <p:nvPr/>
        </p:nvSpPr>
        <p:spPr>
          <a:xfrm>
            <a:off x="4419720" y="3809880"/>
            <a:ext cx="121896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281952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uring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AutoShape 24"/>
          <p:cNvSpPr/>
          <p:nvPr/>
        </p:nvSpPr>
        <p:spPr>
          <a:xfrm>
            <a:off x="5867280" y="48006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AutoShape 25"/>
          <p:cNvSpPr/>
          <p:nvPr/>
        </p:nvSpPr>
        <p:spPr>
          <a:xfrm>
            <a:off x="5867280" y="6858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Line 26"/>
          <p:cNvSpPr/>
          <p:nvPr/>
        </p:nvSpPr>
        <p:spPr>
          <a:xfrm>
            <a:off x="67816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67816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28"/>
          <p:cNvSpPr/>
          <p:nvPr/>
        </p:nvSpPr>
        <p:spPr>
          <a:xfrm>
            <a:off x="7391520" y="182880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9"/>
          <p:cNvSpPr/>
          <p:nvPr/>
        </p:nvSpPr>
        <p:spPr>
          <a:xfrm>
            <a:off x="7391520" y="380988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AutoShape 30"/>
          <p:cNvSpPr/>
          <p:nvPr/>
        </p:nvSpPr>
        <p:spPr>
          <a:xfrm>
            <a:off x="525780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fter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Line 31"/>
          <p:cNvSpPr/>
          <p:nvPr/>
        </p:nvSpPr>
        <p:spPr>
          <a:xfrm>
            <a:off x="304920" y="5562720"/>
            <a:ext cx="8381880" cy="0"/>
          </a:xfrm>
          <a:prstGeom prst="line">
            <a:avLst/>
          </a:prstGeom>
          <a:ln w="19080">
            <a:solidFill>
              <a:srgbClr val="0000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213372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7_Specifying_Parameter_Value_via_a_Configuration_File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1092240"/>
            <a:ext cx="8686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int_param'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string_param' to '“preset"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Int 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String Parameter Value : pres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Integer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Float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String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integer parameter value to '2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string  parameter value to 'configure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Int Parameter Value :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String Parameter Value : config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23:22Z</dcterms:modified>
  <cp:revision>18</cp:revision>
  <dc:subject/>
  <dc:title>ex17_Specifying_Parameter_Values_via_a_Configuration_Fi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23:22Z</vt:lpwstr>
  </property>
  <property fmtid="{D5CDD505-2E9C-101B-9397-08002B2CF9AE}" pid="5" name="TitusGUID">
    <vt:lpwstr>c44708f1-27b7-4d9f-94bd-f7e37ebb71cf</vt:lpwstr>
  </property>
</Properties>
</file>