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AutoShape 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AutoShape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AutoShape 1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AutoShape 1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AutoShape 1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AutoShape 1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AutoShape 1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AutoShape 1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AutoShape 1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AutoShape 1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AutoShape 1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Rectangle 20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Freeform 2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Freeform 2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Freeform 2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Freeform 2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Freeform 2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Freeform 2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Freeform 2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Freeform 2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Freeform 3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Freeform 3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Freeform 3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Freeform 3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Freeform 3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Freeform 3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Freeform 3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Freeform 3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Freeform 3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Freeform 3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Freeform 4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Freeform 4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Freeform 4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Freeform 4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Freeform 4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Freeform 4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Freeform 4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Freeform 4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Freeform 4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Freeform 4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Freeform 5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Freeform 51"/>
          <p:cNvSpPr/>
          <p:nvPr/>
        </p:nvSpPr>
        <p:spPr>
          <a:xfrm>
            <a:off x="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Freeform 52"/>
          <p:cNvSpPr/>
          <p:nvPr/>
        </p:nvSpPr>
        <p:spPr>
          <a:xfrm>
            <a:off x="388476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494240" cy="33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Freeform 55"/>
          <p:cNvSpPr/>
          <p:nvPr/>
        </p:nvSpPr>
        <p:spPr>
          <a:xfrm>
            <a:off x="0" y="868536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E55FAD-3D76-49AF-AFF5-E28A3F0F62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394B61-4031-4F62-B986-64E7B78E07F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4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6D07D6-1316-4F2C-BF75-B61F966F67D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F58C8F-E45B-40E4-9B01-C8AA8D0B753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AutoShape 3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A294BA-13B9-480B-9E65-F1E7E5EE553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FFBA23-9234-4EAC-83FC-C3651DBDE71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0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697C83-B661-47E9-A7C6-34F1C884141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1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310F9D-DAAF-42ED-894F-EA0A338EE31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EB2D57-AF77-4E54-8D1D-40C96D141EE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3F6D09-C541-4390-929E-3D9C94EDB0B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BE63ED-97A5-4348-94FD-BCCB6151DA5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7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AD39D0-4694-43DC-A563-FE1D278DA3C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  <p:sp>
        <p:nvSpPr>
          <p:cNvPr id="230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1CD3DD-4FE9-4FC9-937A-42BB76B35E6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31B76A-7B39-484D-9FC7-70C495123C5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19954B-A2B1-45B2-8976-BBE55864B2D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444EEE-2A6E-4624-87D7-D2170C00AE3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  <p:sp>
        <p:nvSpPr>
          <p:cNvPr id="236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C92705-F4CF-48E8-A66F-E46D082501E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55600" y="685800"/>
            <a:ext cx="4469040" cy="335124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535319-3522-4334-A500-22360FB3875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46F46-4BB5-46D5-8B51-C7552887CA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723FC-6C92-4EA5-A501-DBAFA20679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FEA0B-ADF2-44E3-8652-B7B02339F3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64252-D5D5-4D4A-A04E-680C6DA33D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B044F-A541-44C7-AE55-68DA053B9C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BFC579-9EC4-4D87-AD17-8D349B60C4F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1AB146-D131-4226-B748-471D24CCA39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4A454B-2423-4E29-8236-43B9E43C3DB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5CDA7A-6B5D-46A7-85A4-368D700A179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7062CB-C4AC-4387-AF53-1ACE98A565E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F906E-9948-451F-9387-2215BD67054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F30993-229D-40C7-9205-23B7344CEFC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946B5-88E7-4AA0-8989-BC942964957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354190-1958-4148-A783-2C35247140D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EC3CFF-EC85-49FB-AAE3-ECCCC0BE237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2BE2D2-2977-4406-AF88-DF089CA32F4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83BE83-D254-46BE-B31B-C704B09BF0D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A81C30-212F-4532-8DE5-2832207C6A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367F1-62F6-4186-B592-6186ED0DBA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3C27F-5A53-4835-88D6-8547D8D983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2E8AE-FADC-4FEE-8D17-54C8DF6130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12366-E3B6-4937-9BE6-CD5E089527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E4B26-EF96-4A0D-9E01-EE4821EB31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C36C9-02EA-4DFE-96A1-5D989D1DD5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287760"/>
            <a:ext cx="1141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CCA262-E950-42A0-85E9-DB382216D33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760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760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2"/>
          </p:nvPr>
        </p:nvSpPr>
        <p:spPr>
          <a:xfrm>
            <a:off x="228600" y="6288120"/>
            <a:ext cx="11397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fld id="{E128CFCF-2908-44EA-A433-14272E27BB5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507960" y="3359160"/>
            <a:ext cx="833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Superset Parameter Value Specification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SystemC CCI WG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3352680" y="4876920"/>
            <a:ext cx="56390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 V S Phaneendr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ircuitSutra Technologies Pvt. Ltd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p 2011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AutoShape 1"/>
          <p:cNvSpPr/>
          <p:nvPr/>
        </p:nvSpPr>
        <p:spPr>
          <a:xfrm>
            <a:off x="685800" y="220680"/>
            <a:ext cx="823752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uperset Parameter Value Specific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AutoShape 2"/>
          <p:cNvSpPr/>
          <p:nvPr/>
        </p:nvSpPr>
        <p:spPr>
          <a:xfrm>
            <a:off x="554040" y="1249200"/>
            <a:ext cx="8072280" cy="3886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Objective of the present example is to demonstrate the following 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696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tecting Unconsumed Parameters (R3.1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isting in a mod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traight Connector 28"/>
          <p:cNvSpPr/>
          <p:nvPr/>
        </p:nvSpPr>
        <p:spPr>
          <a:xfrm flipH="1">
            <a:off x="2284560" y="4572000"/>
            <a:ext cx="1440" cy="144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Rectangle 33"/>
          <p:cNvSpPr/>
          <p:nvPr/>
        </p:nvSpPr>
        <p:spPr>
          <a:xfrm>
            <a:off x="762120" y="4038480"/>
            <a:ext cx="24382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ameter_owner.h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Rectangle 34"/>
          <p:cNvSpPr/>
          <p:nvPr/>
        </p:nvSpPr>
        <p:spPr>
          <a:xfrm>
            <a:off x="6095880" y="4114800"/>
            <a:ext cx="26672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ameter_configurator.h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Rectangle 37"/>
          <p:cNvSpPr/>
          <p:nvPr/>
        </p:nvSpPr>
        <p:spPr>
          <a:xfrm>
            <a:off x="457200" y="685800"/>
            <a:ext cx="26668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ain.cpp (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testbench file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Rectangle 38"/>
          <p:cNvSpPr/>
          <p:nvPr/>
        </p:nvSpPr>
        <p:spPr>
          <a:xfrm>
            <a:off x="533520" y="990720"/>
            <a:ext cx="800100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he configuration file approach for assigning preset values to the cci-parameters.  (For further details, see ex17_Specifying_Parameter_Values_via_a_Configuration_File)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Rectangle 40"/>
          <p:cNvSpPr/>
          <p:nvPr/>
        </p:nvSpPr>
        <p:spPr>
          <a:xfrm>
            <a:off x="2286000" y="2666880"/>
            <a:ext cx="48006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antiate the two modules :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WN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FIGURAT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odule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89" name="Straight Arrow Connector 43"/>
          <p:cNvCxnSpPr>
            <a:stCxn id="188" idx="2"/>
            <a:endCxn id="184" idx="0"/>
          </p:cNvCxnSpPr>
          <p:nvPr/>
        </p:nvCxnSpPr>
        <p:spPr>
          <a:xfrm flipH="1">
            <a:off x="1980360" y="3352320"/>
            <a:ext cx="270612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90" name="Straight Arrow Connector 45"/>
          <p:cNvCxnSpPr>
            <a:stCxn id="188" idx="2"/>
            <a:endCxn id="185" idx="0"/>
          </p:cNvCxnSpPr>
          <p:nvPr/>
        </p:nvCxnSpPr>
        <p:spPr>
          <a:xfrm>
            <a:off x="4686480" y="3352320"/>
            <a:ext cx="2743920" cy="762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91" name="Rectangle 46"/>
          <p:cNvSpPr/>
          <p:nvPr/>
        </p:nvSpPr>
        <p:spPr>
          <a:xfrm>
            <a:off x="152280" y="4800600"/>
            <a:ext cx="426744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antiate the cci_parameters :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meter Name :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t_param_1;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Value :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10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meter Name :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t_param_2;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Value :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20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Rectangle 47"/>
          <p:cNvSpPr/>
          <p:nvPr/>
        </p:nvSpPr>
        <p:spPr>
          <a:xfrm>
            <a:off x="6113520" y="4992840"/>
            <a:ext cx="26668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t handle for broker: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_broker(cci::cci_get_broker())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Straight Connector 28"/>
          <p:cNvSpPr/>
          <p:nvPr/>
        </p:nvSpPr>
        <p:spPr>
          <a:xfrm flipH="1">
            <a:off x="7237440" y="4572000"/>
            <a:ext cx="1440" cy="144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AutoShape 15"/>
          <p:cNvSpPr/>
          <p:nvPr/>
        </p:nvSpPr>
        <p:spPr>
          <a:xfrm>
            <a:off x="6095880" y="1600200"/>
            <a:ext cx="2819520" cy="1143000"/>
          </a:xfrm>
          <a:prstGeom prst="flowChartDocumen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ram_owner.int_param_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ram_owner.int_param_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ram_owner.int_param_3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ram_owner.int_param_4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Rectangle 16"/>
          <p:cNvSpPr/>
          <p:nvPr/>
        </p:nvSpPr>
        <p:spPr>
          <a:xfrm>
            <a:off x="6629400" y="2666880"/>
            <a:ext cx="1633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nfiguration_Fi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Rectangle 19"/>
          <p:cNvSpPr/>
          <p:nvPr/>
        </p:nvSpPr>
        <p:spPr>
          <a:xfrm>
            <a:off x="590400" y="1827720"/>
            <a:ext cx="451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cci::cnf::cci_configFile_Tool configTool("configFileTool");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configTool.config("Configuration_File.txt");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Rectangle 20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8" name="AutoShape 1"/>
          <p:cNvSpPr/>
          <p:nvPr/>
        </p:nvSpPr>
        <p:spPr>
          <a:xfrm>
            <a:off x="685800" y="220680"/>
            <a:ext cx="823752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traight Connector 28"/>
          <p:cNvSpPr/>
          <p:nvPr/>
        </p:nvSpPr>
        <p:spPr>
          <a:xfrm flipH="1">
            <a:off x="6934320" y="1523880"/>
            <a:ext cx="1440" cy="44974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Rectangle 33"/>
          <p:cNvSpPr/>
          <p:nvPr/>
        </p:nvSpPr>
        <p:spPr>
          <a:xfrm>
            <a:off x="304920" y="914400"/>
            <a:ext cx="24382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ameter_owner.h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Rectangle 34"/>
          <p:cNvSpPr/>
          <p:nvPr/>
        </p:nvSpPr>
        <p:spPr>
          <a:xfrm>
            <a:off x="5410080" y="838080"/>
            <a:ext cx="266724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ameter_configurator.h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Rectangle 47"/>
          <p:cNvSpPr/>
          <p:nvPr/>
        </p:nvSpPr>
        <p:spPr>
          <a:xfrm>
            <a:off x="4038480" y="2882880"/>
            <a:ext cx="4800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tain list of unconsumed preset values: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consumed_parameter_list = m_broker.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t_unconsumed_preset_values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Rectangle 13"/>
          <p:cNvSpPr/>
          <p:nvPr/>
        </p:nvSpPr>
        <p:spPr>
          <a:xfrm>
            <a:off x="2438280" y="2577960"/>
            <a:ext cx="19051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Within EOE phase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Rectangle 16"/>
          <p:cNvSpPr/>
          <p:nvPr/>
        </p:nvSpPr>
        <p:spPr>
          <a:xfrm>
            <a:off x="3200400" y="4343400"/>
            <a:ext cx="9144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@ 0 ns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Rectangle 17"/>
          <p:cNvSpPr/>
          <p:nvPr/>
        </p:nvSpPr>
        <p:spPr>
          <a:xfrm>
            <a:off x="4038480" y="4572000"/>
            <a:ext cx="426744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 the list of parameter names for which there are unconsumed preset values: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m_owner.int_param_3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m_owner.int_param_4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Straight Connector 28"/>
          <p:cNvSpPr/>
          <p:nvPr/>
        </p:nvSpPr>
        <p:spPr>
          <a:xfrm flipH="1">
            <a:off x="1523520" y="1676520"/>
            <a:ext cx="1800" cy="144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Rectangle 15"/>
          <p:cNvSpPr/>
          <p:nvPr/>
        </p:nvSpPr>
        <p:spPr>
          <a:xfrm>
            <a:off x="4038480" y="1447920"/>
            <a:ext cx="510552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t_param_handles(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retrieve list of all cci-parameters within model.  Store result in a std::vector: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lete_parameter_list =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_broker.get_param_handles(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Rectangle 14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AutoShape 1"/>
          <p:cNvSpPr/>
          <p:nvPr/>
        </p:nvSpPr>
        <p:spPr>
          <a:xfrm>
            <a:off x="685800" y="220680"/>
            <a:ext cx="823752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1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Expected Output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(ex18_Superset_Parameter_Value_Specification.log)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80880" y="1514160"/>
            <a:ext cx="8686800" cy="40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ConfigFile_Api: Applying preset value of param 'param_owner.int_param_1' to '100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ConfigFile_Api: Applying preset value of param 'param_owner.int_param_2' to '200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ConfigFile_Api: Applying preset value of param 'param_owner.int_param_3' to '300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ConfigFile_Api: Applying preset value of param 'param_owner.int_param_4' to '400‘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within EOE] : List of all parameters in the mode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within EOE] : Parameter Name : param_owner.int_param_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within EOE] : Parameter Name : param_owner.int_param_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List of parameter names with unconsumed preset valu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Unconsumed Parameter Name : param_owner.int_param_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Unconsumed Parameter Name : param_owner.int_param_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8:34:41Z</dcterms:created>
  <dc:creator>P V S Phaneendra</dc:creator>
  <dc:description/>
  <cp:keywords>CTPClassification=CTP_IC:VisualMarkings=</cp:keywords>
  <dc:language>en-US</dc:language>
  <cp:lastModifiedBy>Wieman, Trevor</cp:lastModifiedBy>
  <cp:lastPrinted>2008-06-05T03:17:01Z</cp:lastPrinted>
  <dcterms:modified xsi:type="dcterms:W3CDTF">2017-12-17T15:40:57Z</dcterms:modified>
  <cp:revision>20</cp:revision>
  <dc:subject/>
  <dc:title>ex18_Superset_Parameter_Value_Specific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7 15:40:57Z</vt:lpwstr>
  </property>
  <property fmtid="{D5CDD505-2E9C-101B-9397-08002B2CF9AE}" pid="5" name="TitusGUID">
    <vt:lpwstr>407613b7-d1ea-43f3-af1c-aef363dad956</vt:lpwstr>
  </property>
</Properties>
</file>