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086CB-69F1-456A-B7BC-0F19AC157B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F2B75-D793-4D45-93E1-B70C40B88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66F05-14A0-4F01-936F-F184F77DA4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F375F-693D-4868-8CCD-56A4CD5C6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0376C-B5A3-4984-951C-D761F7412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e are lot more messages coming from CCI infrastructure code; the report includes only user messages (not from cci inf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BFDC8-2F75-4DB3-98A0-331D68698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616F0-2009-46B4-8A0F-8E00DCBD30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5DDEB-DD68-4DAA-884D-AE83082454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94B12-7870-4E94-930F-E6586E6907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E5962-65C8-459B-8F19-F827A8D3DB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B6AF2-923A-411C-8C7B-8F667FE49B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8C321-C7F0-4C34-866A-FE17A97928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23F6D-4721-4C7B-94CA-0F0660CEE7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C26E0-808F-441F-89ED-F3CDE8BF6B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973DF-060B-4D54-B309-EA5B0691B0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65769-1EE6-4A32-BB08-B5599A81FF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7D00B-7B61-417E-87B0-8EC9DDF0C3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6FD94-8E66-4233-8839-FD8F46FB0C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09C61-99C9-4836-96B9-C622E947F2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mple Immutable Parameters</a:t>
            </a:r>
            <a:br>
              <a:rPr sz="2600"/>
            </a:br>
            <a:br>
              <a:rPr sz="26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shal Go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b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imple Immutable Parameter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1640" indent="-32364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 use of simple immutabl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r module specifies variables as immut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Case 1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 a parameter with default val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ce this value is set, any attempt to change the parameter at run time will fail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Case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 an initial value for a parameter; before parameter construct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value will take precedence over default (constructor) value of the parameter; as well as; any attempt to change the parameter at run time will fai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 (UC-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5068800" y="1009800"/>
            <a:ext cx="198936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2143080" y="100188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4" name="Straight Arrow Connector 16"/>
          <p:cNvCxnSpPr>
            <a:stCxn id="92" idx="2"/>
          </p:cNvCxnSpPr>
          <p:nvPr/>
        </p:nvCxnSpPr>
        <p:spPr>
          <a:xfrm flipH="1">
            <a:off x="6058800" y="14299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Straight Arrow Connector 17"/>
          <p:cNvCxnSpPr>
            <a:stCxn id="93" idx="2"/>
          </p:cNvCxnSpPr>
          <p:nvPr/>
        </p:nvCxnSpPr>
        <p:spPr>
          <a:xfrm flipH="1">
            <a:off x="3118680" y="1430280"/>
            <a:ext cx="1836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TextBox 27"/>
          <p:cNvSpPr/>
          <p:nvPr/>
        </p:nvSpPr>
        <p:spPr>
          <a:xfrm>
            <a:off x="657360" y="14605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Folded Corner 41"/>
          <p:cNvSpPr/>
          <p:nvPr/>
        </p:nvSpPr>
        <p:spPr>
          <a:xfrm>
            <a:off x="6129360" y="2019240"/>
            <a:ext cx="2773440" cy="39996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,immutable_parameter&gt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_1(“param_1”, 1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Folded Corner 42"/>
          <p:cNvSpPr/>
          <p:nvPr/>
        </p:nvSpPr>
        <p:spPr>
          <a:xfrm>
            <a:off x="6129360" y="3570120"/>
            <a:ext cx="1214280" cy="44136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_1 = 1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Rounded Rectangular Callout 44"/>
          <p:cNvSpPr/>
          <p:nvPr/>
        </p:nvSpPr>
        <p:spPr>
          <a:xfrm>
            <a:off x="3746520" y="549756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aram_1 ‘Owner’ modu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Rounded Rectangular Callout 45"/>
          <p:cNvSpPr/>
          <p:nvPr/>
        </p:nvSpPr>
        <p:spPr>
          <a:xfrm>
            <a:off x="814320" y="5502240"/>
            <a:ext cx="2216160" cy="531720"/>
          </a:xfrm>
          <a:prstGeom prst="wedgeRoundRectCallout">
            <a:avLst>
              <a:gd name="adj1" fmla="val 53509"/>
              <a:gd name="adj2" fmla="val -135768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EXTERNAL module updating param_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Rounded Rectangular Callout 44"/>
          <p:cNvSpPr/>
          <p:nvPr/>
        </p:nvSpPr>
        <p:spPr>
          <a:xfrm>
            <a:off x="7054920" y="2579760"/>
            <a:ext cx="1904760" cy="579240"/>
          </a:xfrm>
          <a:prstGeom prst="wedgeRoundRectCallout">
            <a:avLst>
              <a:gd name="adj1" fmla="val -47550"/>
              <a:gd name="adj2" fmla="val -75976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Default value is ignored. param_1 remains “100” (Ref: example5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Rounded Rectangular Callout 44"/>
          <p:cNvSpPr/>
          <p:nvPr/>
        </p:nvSpPr>
        <p:spPr>
          <a:xfrm>
            <a:off x="3225960" y="2378160"/>
            <a:ext cx="1519200" cy="304560"/>
          </a:xfrm>
          <a:prstGeom prst="wedgeRoundRectCallout">
            <a:avLst>
              <a:gd name="adj1" fmla="val -47037"/>
              <a:gd name="adj2" fmla="val -127875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Set up init value to 100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Rounded Rectangular Callout 44"/>
          <p:cNvSpPr/>
          <p:nvPr/>
        </p:nvSpPr>
        <p:spPr>
          <a:xfrm>
            <a:off x="7035840" y="4240080"/>
            <a:ext cx="1923840" cy="534960"/>
          </a:xfrm>
          <a:prstGeom prst="wedgeRoundRectCallout">
            <a:avLst>
              <a:gd name="adj1" fmla="val -56300"/>
              <a:gd name="adj2" fmla="val -89625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Attempt to update param_1 value fails. param_1 remains “100”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TextBox 28"/>
          <p:cNvSpPr/>
          <p:nvPr/>
        </p:nvSpPr>
        <p:spPr>
          <a:xfrm>
            <a:off x="662760" y="356220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1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Folded Corner 41"/>
          <p:cNvSpPr/>
          <p:nvPr/>
        </p:nvSpPr>
        <p:spPr>
          <a:xfrm>
            <a:off x="3225960" y="1517760"/>
            <a:ext cx="2398680" cy="63504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broker.set_preset_cci_value(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sim_ip.param_1"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::cci_value::from_json("100")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 (UC-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5068800" y="1009800"/>
            <a:ext cx="198936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4"/>
          <p:cNvSpPr/>
          <p:nvPr/>
        </p:nvSpPr>
        <p:spPr>
          <a:xfrm>
            <a:off x="2149560" y="984240"/>
            <a:ext cx="1989000" cy="4287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09" name="Straight Arrow Connector 16"/>
          <p:cNvCxnSpPr>
            <a:stCxn id="107" idx="2"/>
          </p:cNvCxnSpPr>
          <p:nvPr/>
        </p:nvCxnSpPr>
        <p:spPr>
          <a:xfrm flipH="1">
            <a:off x="6058800" y="14299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0" name="Straight Arrow Connector 17"/>
          <p:cNvCxnSpPr>
            <a:stCxn id="108" idx="2"/>
          </p:cNvCxnSpPr>
          <p:nvPr/>
        </p:nvCxnSpPr>
        <p:spPr>
          <a:xfrm flipH="1">
            <a:off x="3125160" y="1412640"/>
            <a:ext cx="19800" cy="426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1" name="TextBox 27"/>
          <p:cNvSpPr/>
          <p:nvPr/>
        </p:nvSpPr>
        <p:spPr>
          <a:xfrm>
            <a:off x="657360" y="14605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28"/>
          <p:cNvSpPr/>
          <p:nvPr/>
        </p:nvSpPr>
        <p:spPr>
          <a:xfrm>
            <a:off x="608760" y="288432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2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Folded Corner 42"/>
          <p:cNvSpPr/>
          <p:nvPr/>
        </p:nvSpPr>
        <p:spPr>
          <a:xfrm>
            <a:off x="6102360" y="4059360"/>
            <a:ext cx="1258920" cy="2746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_2 = 2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44"/>
          <p:cNvSpPr/>
          <p:nvPr/>
        </p:nvSpPr>
        <p:spPr>
          <a:xfrm>
            <a:off x="3720960" y="547056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aram_2 ‘Owner’ modu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Rounded Rectangular Callout 45"/>
          <p:cNvSpPr/>
          <p:nvPr/>
        </p:nvSpPr>
        <p:spPr>
          <a:xfrm>
            <a:off x="789120" y="5432400"/>
            <a:ext cx="2276280" cy="541440"/>
          </a:xfrm>
          <a:prstGeom prst="wedgeRoundRectCallout">
            <a:avLst>
              <a:gd name="adj1" fmla="val 51254"/>
              <a:gd name="adj2" fmla="val -119689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EXTERNAL module updating sim_ip.param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44"/>
          <p:cNvSpPr/>
          <p:nvPr/>
        </p:nvSpPr>
        <p:spPr>
          <a:xfrm>
            <a:off x="6494400" y="2365200"/>
            <a:ext cx="1962360" cy="385920"/>
          </a:xfrm>
          <a:prstGeom prst="wedgeRoundRectCallout">
            <a:avLst>
              <a:gd name="adj1" fmla="val -46513"/>
              <a:gd name="adj2" fmla="val -88023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Default value will be used. param_2 = 2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Rounded Rectangular Callout 44"/>
          <p:cNvSpPr/>
          <p:nvPr/>
        </p:nvSpPr>
        <p:spPr>
          <a:xfrm>
            <a:off x="6800760" y="4570560"/>
            <a:ext cx="1390680" cy="441000"/>
          </a:xfrm>
          <a:prstGeom prst="wedgeRoundRectCallout">
            <a:avLst>
              <a:gd name="adj1" fmla="val -56611"/>
              <a:gd name="adj2" fmla="val -98666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Internal updates are also reject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Folded Corner 42"/>
          <p:cNvSpPr/>
          <p:nvPr/>
        </p:nvSpPr>
        <p:spPr>
          <a:xfrm>
            <a:off x="3201840" y="2889360"/>
            <a:ext cx="2819520" cy="3952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_2_handle.set_cci_value(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value("200")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TextBox 28"/>
          <p:cNvSpPr/>
          <p:nvPr/>
        </p:nvSpPr>
        <p:spPr>
          <a:xfrm>
            <a:off x="648360" y="393372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3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Folded Corner 41"/>
          <p:cNvSpPr/>
          <p:nvPr/>
        </p:nvSpPr>
        <p:spPr>
          <a:xfrm>
            <a:off x="6087960" y="1776240"/>
            <a:ext cx="2800440" cy="4003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,immutable_parameter&gt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_2(“param_2”, 2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Rounded Rectangular Callout 44"/>
          <p:cNvSpPr/>
          <p:nvPr/>
        </p:nvSpPr>
        <p:spPr>
          <a:xfrm>
            <a:off x="3691080" y="3505320"/>
            <a:ext cx="1517400" cy="428400"/>
          </a:xfrm>
          <a:prstGeom prst="wedgeRoundRectCallout">
            <a:avLst>
              <a:gd name="adj1" fmla="val -40527"/>
              <a:gd name="adj2" fmla="val -86462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External updates are reject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86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ex04_Simple_Immutable_param.log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80880" y="1133640"/>
            <a:ext cx="86868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0 s, Attempting to setup config_ip to 100 before IP construc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0 s, Set init-value of sim_ip.param_1 to 1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specified for sim_ip.param_1 is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specified for sim_ip.param_2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param_1 mutable type is immutab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param_2 mutable type is immutab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Ctor: immutable param:param_1 = 100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Ctor: immutable param:param_2 = 2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Begin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nsolas"/>
              </a:rPr>
              <a:t>Info: sim_ip: @0 s, execute method is testing Use Case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@Run: param_1 = 100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10 ns, @Run: Assign new value (10) to sim_ip.param_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</a:rPr>
              <a:t>Error: /Accellera/CCI/SET_PARAM_FAILED: Parameter (sim_ip.param_1) is immutable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process: sim_ip.execute @ 1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@Run: param_1 = 100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137880"/>
            <a:ext cx="86868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80880" y="1244520"/>
            <a:ext cx="8686800" cy="49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nsolas"/>
              </a:rPr>
              <a:t>Info: sim_ip: @10 ns, execute method is testing Use Case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20 ns, Attempting to set value of 'sim_ip.param_2' to 2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</a:rPr>
              <a:t>Error: /Accellera/CCI/SET_PARAM_FAILED: Parameter (sim_ip.param_2) is immutable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process: cfg_ip.execute @ 2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@Run: param_2 = 2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30 ns, @Run: Assign new value (20) to sim_ip.param_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</a:rPr>
              <a:t>Error: /Accellera/CCI/SET_PARAM_FAILED: Parameter (sim_ip.param_2) is immutable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process: sim_ip.execute @ 3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@Run: param_2 = 2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End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Vishal Goel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0-06T16:22:58Z</dcterms:modified>
  <cp:revision>212</cp:revision>
  <dc:subject/>
  <dc:title>Simple Immutable Parameters Examp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6-12-20 21:49:18Z</vt:lpwstr>
  </property>
  <property fmtid="{D5CDD505-2E9C-101B-9397-08002B2CF9AE}" pid="5" name="TitusGUID">
    <vt:lpwstr>f1c79e0e-b5e2-49e9-9085-1b84db7193b4</vt:lpwstr>
  </property>
</Properties>
</file>