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11520" cy="33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FBB6E-BB57-4F6A-8B73-037AE3E7C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9231B-8101-4400-9C39-2C9B755BE3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E2476-6F42-4163-A053-780951EAB1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C9164-AC50-4452-9DE2-6C5239BE20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19579-6F72-446C-8BD3-3B5115416A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F96B8-B7F4-4648-AF00-A3EA1603F6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354E3-2366-418C-9592-FAE7AF8006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6E7AC-050C-4C6D-842F-8E587FF605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AD0EC-6195-4AD0-B0DB-7170749A66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397A6-FE1B-4718-AF33-34928AED0B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23701-1705-4751-9B36-564824DAC4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F0AC9-BF16-40AF-BA9E-98C8C2BEC7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DD6A7-15FE-4978-A907-F41FF195BA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122F6-E5B3-4600-976A-0207680031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4A857-088E-40B1-9373-9343752DD9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7F24A-1D4D-4C96-A230-D1EDB6505B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E9512-8FA2-45C0-9D00-6B88CDD837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C6A26-8CED-48FB-8C66-44093A5914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CDE30-E808-4012-A37D-EDDCB2F2AD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17867-2EB7-4742-A3A2-10057A335C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19770-82E2-4245-97C3-1D08E3A4F9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F0F18-C63F-4116-8C70-1F1BAFD987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86D0D-1047-45F3-A7E1-E5CB23CA89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BF0B7-24EA-4A1F-AC3C-069552EF3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BE552-B51E-4044-9597-697116C352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586BC-7381-4B8F-AC1E-6165075335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3AC5D-7DF3-41EA-B239-07033CDB90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98884-B506-4BD0-AA2E-CE8A7F1C08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0B213-FC42-4A70-B38B-F5BFA06886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B3B54-B61C-4501-A271-94CA93585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417A6-5F3F-4289-98B7-83DC9939F0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491A9-AB52-455D-A66F-76440DDF61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1BBD7-359B-4AB7-AFDC-ED2C2755C1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E8C79-2496-4219-9446-6839A3EEA4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AB0AB-A544-4654-99CC-AF2F4CB898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58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FEB4A-4C14-4789-B04A-460DE2C1F8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>
            <a:off x="3780000" y="5157720"/>
            <a:ext cx="4464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Parameter Value Locking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0880" y="1514160"/>
            <a:ext cx="86868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Unlocking parameter (locked earlier)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is not locked!! Assign a new value '3' to 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Un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ed with password (password not known to OWNE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Set parameter value to '4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cfgr.run_mutable_cfgr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Now, unlock with the correc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Directly lock the unlocked parameter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Overwrite value of the (locked!) parameter to 4 without unlock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jectives of this example are to demonstrate  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king and unlocking parameter valu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ing the rejection of an attempt to modify a locked parameter’s valu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3" marL="863640" indent="-4320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ote: locking and unlocking is shown a context different than for structural parameters, already shown in Example 3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304920" y="-324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987560" y="1049400"/>
          <a:ext cx="4948200" cy="2566800"/>
        </p:xfrm>
        <a:graphic>
          <a:graphicData uri="http://schemas.openxmlformats.org/drawingml/2006/table">
            <a:tbl>
              <a:tblPr/>
              <a:tblGrid>
                <a:gridCol w="3124080"/>
                <a:gridCol w="1824120"/>
              </a:tblGrid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dica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Tr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Fal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3333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formation: Inf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War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Exception Thrown : Erro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  <p:sp>
        <p:nvSpPr>
          <p:cNvPr id="132" name="AutoShape 47"/>
          <p:cNvSpPr/>
          <p:nvPr/>
        </p:nvSpPr>
        <p:spPr>
          <a:xfrm>
            <a:off x="770040" y="4114800"/>
            <a:ext cx="7543800" cy="18288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Kindly note that the above legend has not been used to demonstrate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API'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(used for querying a CCI parameter's locking status) status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age :  int_param_handle.locked(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” API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a parameter is in locked state and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in unlocked stat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304920" y="0"/>
            <a:ext cx="883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1"/>
          <p:cNvSpPr/>
          <p:nvPr/>
        </p:nvSpPr>
        <p:spPr>
          <a:xfrm>
            <a:off x="96840" y="4822920"/>
            <a:ext cx="2563920" cy="7398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2311560" y="4572000"/>
            <a:ext cx="180324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286000" y="3459240"/>
            <a:ext cx="18288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133720" y="1905120"/>
            <a:ext cx="1981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169920" y="5486400"/>
            <a:ext cx="5195880" cy="56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NOTE :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mechanism to catch the err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264960" y="2263680"/>
            <a:ext cx="214344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fault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3048120" y="16002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5181480" y="2021040"/>
            <a:ext cx="3843360" cy="88884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ssign the int_param_handle from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713268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92232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5638680" y="966960"/>
            <a:ext cx="3468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192240" y="3795840"/>
            <a:ext cx="2322360" cy="69984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3513240" y="2895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AutoShape 15"/>
          <p:cNvSpPr/>
          <p:nvPr/>
        </p:nvSpPr>
        <p:spPr>
          <a:xfrm>
            <a:off x="3494160" y="1398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264960" y="3112920"/>
            <a:ext cx="116712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1" name="AutoShape 18"/>
          <p:cNvCxnSpPr>
            <a:stCxn id="140" idx="3"/>
            <a:endCxn id="148" idx="1"/>
          </p:cNvCxnSpPr>
          <p:nvPr/>
        </p:nvCxnSpPr>
        <p:spPr>
          <a:xfrm flipV="1">
            <a:off x="2408400" y="1680480"/>
            <a:ext cx="1086480" cy="86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19"/>
          <p:cNvCxnSpPr>
            <a:stCxn id="146" idx="3"/>
            <a:endCxn id="147" idx="1"/>
          </p:cNvCxnSpPr>
          <p:nvPr/>
        </p:nvCxnSpPr>
        <p:spPr>
          <a:xfrm flipV="1">
            <a:off x="2514600" y="3177720"/>
            <a:ext cx="999000" cy="96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0"/>
          <p:cNvCxnSpPr>
            <a:stCxn id="135" idx="3"/>
            <a:endCxn id="150" idx="1"/>
          </p:cNvCxnSpPr>
          <p:nvPr/>
        </p:nvCxnSpPr>
        <p:spPr>
          <a:xfrm flipV="1">
            <a:off x="2660760" y="4320360"/>
            <a:ext cx="854640" cy="87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AutoShape 21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"/>
          <p:cNvSpPr/>
          <p:nvPr/>
        </p:nvSpPr>
        <p:spPr>
          <a:xfrm>
            <a:off x="3665520" y="3843360"/>
            <a:ext cx="2278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382920" y="1989000"/>
            <a:ext cx="228600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228600" y="3962520"/>
            <a:ext cx="3429000" cy="6109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5572080" y="914400"/>
            <a:ext cx="35355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23623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5607000" y="2033640"/>
            <a:ext cx="3429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2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AutoShape 10"/>
          <p:cNvSpPr/>
          <p:nvPr/>
        </p:nvSpPr>
        <p:spPr>
          <a:xfrm>
            <a:off x="7772400" y="159696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2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AutoShape 11"/>
          <p:cNvSpPr/>
          <p:nvPr/>
        </p:nvSpPr>
        <p:spPr>
          <a:xfrm>
            <a:off x="279252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2971800" y="30718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68" name="AutoShape 13"/>
          <p:cNvCxnSpPr>
            <a:stCxn id="163" idx="1"/>
            <a:endCxn id="166" idx="2"/>
          </p:cNvCxnSpPr>
          <p:nvPr/>
        </p:nvCxnSpPr>
        <p:spPr>
          <a:xfrm flipH="1" flipV="1">
            <a:off x="4168080" y="1934280"/>
            <a:ext cx="1438920" cy="67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AutoShape 14"/>
          <p:cNvSpPr/>
          <p:nvPr/>
        </p:nvSpPr>
        <p:spPr>
          <a:xfrm>
            <a:off x="819000" y="2286000"/>
            <a:ext cx="3294360" cy="5716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 has to be unlocked by the OWNER (the module that locked it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0" name="AutoShape 15"/>
          <p:cNvCxnSpPr>
            <a:stCxn id="159" idx="3"/>
            <a:endCxn id="167" idx="2"/>
          </p:cNvCxnSpPr>
          <p:nvPr/>
        </p:nvCxnSpPr>
        <p:spPr>
          <a:xfrm flipV="1">
            <a:off x="3657240" y="3634920"/>
            <a:ext cx="693000" cy="63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AutoShape 16"/>
          <p:cNvSpPr/>
          <p:nvPr/>
        </p:nvSpPr>
        <p:spPr>
          <a:xfrm>
            <a:off x="320760" y="3254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3801960" y="5321160"/>
            <a:ext cx="228600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18"/>
          <p:cNvSpPr/>
          <p:nvPr/>
        </p:nvSpPr>
        <p:spPr>
          <a:xfrm>
            <a:off x="6172200" y="5205240"/>
            <a:ext cx="2708280" cy="8319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et_cci_value(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cci::cci_value(3)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19"/>
          <p:cNvSpPr/>
          <p:nvPr/>
        </p:nvSpPr>
        <p:spPr>
          <a:xfrm>
            <a:off x="2860560" y="4711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5" name="AutoShape 20"/>
          <p:cNvCxnSpPr>
            <a:stCxn id="173" idx="1"/>
            <a:endCxn id="174" idx="2"/>
          </p:cNvCxnSpPr>
          <p:nvPr/>
        </p:nvCxnSpPr>
        <p:spPr>
          <a:xfrm flipH="1" flipV="1">
            <a:off x="4236480" y="5273280"/>
            <a:ext cx="1934280" cy="34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AutoShape 21"/>
          <p:cNvSpPr/>
          <p:nvPr/>
        </p:nvSpPr>
        <p:spPr>
          <a:xfrm>
            <a:off x="7520040" y="4586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7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3200400" y="202104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5715000" y="1992240"/>
            <a:ext cx="3321000" cy="7765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out password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251460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6" name="AutoShape 9"/>
          <p:cNvCxnSpPr>
            <a:stCxn id="183" idx="1"/>
            <a:endCxn id="185" idx="2"/>
          </p:cNvCxnSpPr>
          <p:nvPr/>
        </p:nvCxnSpPr>
        <p:spPr>
          <a:xfrm flipH="1" flipV="1">
            <a:off x="3890160" y="1934280"/>
            <a:ext cx="182340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Rectangle 10"/>
          <p:cNvSpPr/>
          <p:nvPr/>
        </p:nvSpPr>
        <p:spPr>
          <a:xfrm>
            <a:off x="2948040" y="335448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5486400" y="3402000"/>
            <a:ext cx="3549600" cy="6858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2503440" y="26370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0" name="AutoShape 13"/>
          <p:cNvCxnSpPr>
            <a:stCxn id="188" idx="1"/>
            <a:endCxn id="189" idx="2"/>
          </p:cNvCxnSpPr>
          <p:nvPr/>
        </p:nvCxnSpPr>
        <p:spPr>
          <a:xfrm flipH="1" flipV="1">
            <a:off x="3879000" y="3199680"/>
            <a:ext cx="16074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Rectangle 14"/>
          <p:cNvSpPr/>
          <p:nvPr/>
        </p:nvSpPr>
        <p:spPr>
          <a:xfrm>
            <a:off x="2792520" y="475776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5646600" y="4878360"/>
            <a:ext cx="338940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psswd = NULL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6"/>
          <p:cNvSpPr/>
          <p:nvPr/>
        </p:nvSpPr>
        <p:spPr>
          <a:xfrm>
            <a:off x="2327400" y="395604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7"/>
          <p:cNvSpPr/>
          <p:nvPr/>
        </p:nvSpPr>
        <p:spPr>
          <a:xfrm>
            <a:off x="1922400" y="5197320"/>
            <a:ext cx="3114720" cy="5050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now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5" name="AutoShape 18"/>
          <p:cNvCxnSpPr>
            <a:stCxn id="192" idx="1"/>
            <a:endCxn id="193" idx="2"/>
          </p:cNvCxnSpPr>
          <p:nvPr/>
        </p:nvCxnSpPr>
        <p:spPr>
          <a:xfrm flipH="1" flipV="1">
            <a:off x="3704400" y="4518720"/>
            <a:ext cx="1942200" cy="81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811600" y="216072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3419640" y="3200400"/>
            <a:ext cx="5630760" cy="29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Error: 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327400" y="140976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5715000" y="1854360"/>
            <a:ext cx="3321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4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6" name="AutoShape 10"/>
          <p:cNvCxnSpPr>
            <a:stCxn id="205" idx="1"/>
            <a:endCxn id="204" idx="2"/>
          </p:cNvCxnSpPr>
          <p:nvPr/>
        </p:nvCxnSpPr>
        <p:spPr>
          <a:xfrm flipH="1" flipV="1">
            <a:off x="3702960" y="1974600"/>
            <a:ext cx="201204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AutoShape 11"/>
          <p:cNvSpPr/>
          <p:nvPr/>
        </p:nvSpPr>
        <p:spPr>
          <a:xfrm>
            <a:off x="808200" y="2460600"/>
            <a:ext cx="3114360" cy="50472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2865600" y="472140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4"/>
          <p:cNvSpPr/>
          <p:nvPr/>
        </p:nvSpPr>
        <p:spPr>
          <a:xfrm>
            <a:off x="5257800" y="4805280"/>
            <a:ext cx="3708360" cy="909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 correc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5"/>
          <p:cNvSpPr/>
          <p:nvPr/>
        </p:nvSpPr>
        <p:spPr>
          <a:xfrm>
            <a:off x="2255760" y="39196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AutoShape 16"/>
          <p:cNvCxnSpPr>
            <a:stCxn id="209" idx="1"/>
            <a:endCxn id="210" idx="2"/>
          </p:cNvCxnSpPr>
          <p:nvPr/>
        </p:nvCxnSpPr>
        <p:spPr>
          <a:xfrm flipH="1" flipV="1">
            <a:off x="3633120" y="4482720"/>
            <a:ext cx="162468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5562720" y="914400"/>
            <a:ext cx="34686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678024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25909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925800" y="4246560"/>
            <a:ext cx="195588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990960" y="2462040"/>
            <a:ext cx="200016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363600" y="1687680"/>
            <a:ext cx="1187280" cy="468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1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263520" y="2479680"/>
            <a:ext cx="3200400" cy="936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key = NULL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AutoShape 10"/>
          <p:cNvSpPr/>
          <p:nvPr/>
        </p:nvSpPr>
        <p:spPr>
          <a:xfrm>
            <a:off x="3767040" y="165096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299880" y="4187880"/>
            <a:ext cx="305604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ride parameter value to 4 without unlocking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set(4, 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3838680" y="3487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25" name="AutoShape 13"/>
          <p:cNvCxnSpPr>
            <a:stCxn id="221" idx="3"/>
            <a:endCxn id="222" idx="2"/>
          </p:cNvCxnSpPr>
          <p:nvPr/>
        </p:nvCxnSpPr>
        <p:spPr>
          <a:xfrm flipV="1">
            <a:off x="3463920" y="2214000"/>
            <a:ext cx="1680480" cy="73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AutoShape 14"/>
          <p:cNvCxnSpPr>
            <a:stCxn id="223" idx="3"/>
            <a:endCxn id="224" idx="2"/>
          </p:cNvCxnSpPr>
          <p:nvPr/>
        </p:nvCxnSpPr>
        <p:spPr>
          <a:xfrm flipV="1">
            <a:off x="3355920" y="4050720"/>
            <a:ext cx="185976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3_Parameter_Locking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Locking the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Try to set parameter value to 1 from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_own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iled to set parameter value to 1 from 0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owner.run_owner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 Cannot assign new value to the parameter as it is already locked!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43:06Z</dcterms:modified>
  <cp:revision>26</cp:revision>
  <dc:subject/>
  <dc:title>ex13_Parameter_Value_Lock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43:05Z</vt:lpwstr>
  </property>
  <property fmtid="{D5CDD505-2E9C-101B-9397-08002B2CF9AE}" pid="5" name="TitusGUID">
    <vt:lpwstr>f341ef4f-c913-43a5-ba57-f9d7ac14d2c0</vt:lpwstr>
  </property>
</Properties>
</file>